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938-F7AA-44A8-811B-517663F4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76F-6B3B-4148-9E0F-F712B6F8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E83-63D2-4829-B9F8-4E222CBF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912-53A0-487D-B239-FCC31876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D5D-986F-40D3-8BC3-F0FABBE3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A9B-995B-4B1D-BB42-352136AE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05B-6B52-42FF-9AD8-0E7CF06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556-345E-4437-B204-6FD15FA8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D77-A167-4002-B463-396DE518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44E-C373-4683-87FC-B5D1A77E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1C2-0DF9-43AD-A424-081ACF5F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DF5-5AE1-4CB3-A35C-906ABA2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D46-B5C9-4A45-B8E5-5A34ED127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07920"/>
            <a:ext cx="4318200" cy="284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3759120"/>
            <a:ext cx="4318200" cy="284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907920"/>
            <a:ext cx="4317840" cy="284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759120"/>
            <a:ext cx="4317840" cy="284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1680" y="3759120"/>
            <a:ext cx="1298880" cy="129852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1680" y="2459160"/>
            <a:ext cx="1298880" cy="12985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759120"/>
            <a:ext cx="1298520" cy="12985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459160"/>
            <a:ext cx="1298520" cy="129852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7-01-24T01:31:01Z</dcterms:modified>
  <cp:revision>21</cp:revision>
  <dc:subject/>
  <dc:title>スライド 1</dc:title>
</cp:coreProperties>
</file>