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81E-E235-4EED-B116-B3E3897C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A3D-D9FD-4F11-AC39-DB20F853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A13-6717-4EFB-A55E-64FE343A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2D8-35BC-4BCF-8B4A-857A559F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374-23DF-4EFA-BFEA-55EC6198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64E-A6B9-4557-A666-9DE51ED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13C-623E-453D-AD94-DC5FD8EA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489-7414-4770-A347-E7348DB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5E1-6EE7-44EE-B851-1C6B46C1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B8A-245A-4C6E-A4AC-EA3A230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5BE-645C-4DC5-9460-6CC3FA4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5A2-667B-48DD-8E53-A004255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64A0-0BBD-4A70-977F-78F234E1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07920"/>
            <a:ext cx="4318200" cy="284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3759120"/>
            <a:ext cx="4317840" cy="284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3440" y="3735360"/>
            <a:ext cx="2873520" cy="2873520"/>
          </a:xfrm>
          <a:prstGeom prst="cube">
            <a:avLst>
              <a:gd name="adj" fmla="val 7249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759120"/>
            <a:ext cx="4318200" cy="284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7040" y="3735360"/>
            <a:ext cx="2873520" cy="2873520"/>
          </a:xfrm>
          <a:prstGeom prst="cube">
            <a:avLst>
              <a:gd name="adj" fmla="val 7249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907920"/>
            <a:ext cx="4317840" cy="284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3440" y="907920"/>
            <a:ext cx="2873520" cy="2873520"/>
          </a:xfrm>
          <a:prstGeom prst="cube">
            <a:avLst>
              <a:gd name="adj" fmla="val 7249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907920"/>
            <a:ext cx="2873520" cy="2873520"/>
          </a:xfrm>
          <a:prstGeom prst="cube">
            <a:avLst>
              <a:gd name="adj" fmla="val 7249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0:55:03Z</dcterms:created>
  <dc:creator>Takeshima Shinichiro</dc:creator>
  <dc:description/>
  <dc:language>en-US</dc:language>
  <cp:lastModifiedBy>Takeshima Shinichiro</cp:lastModifiedBy>
  <dcterms:modified xsi:type="dcterms:W3CDTF">2007-04-15T01:48:54Z</dcterms:modified>
  <cp:revision>10</cp:revision>
  <dc:subject/>
  <dc:title>スライド 1</dc:title>
</cp:coreProperties>
</file>